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75B3A-61BE-4AB9-B6BE-39A39ABEE23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3A09A-4965-4FDB-9E00-C459E97030FE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3599E-4570-4AB1-89A9-81DC3318143D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201AB-EFED-49D7-902F-93F8BFE9A899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33C75-BB27-4101-9A81-35A367A897B2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090EE-300A-4458-AF15-C208C6CC7C7A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35079-9E2A-4EB5-B72D-B9C5EF31E60D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7130C-FC61-4FBE-94F0-1704CBF9507C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2574D-CC4F-4A47-BE57-9522B4E9E639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2767E-8E98-4C4B-A2E1-535332231E80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7AB85-754C-407F-AA67-FCC41935D926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338AD-AF24-445C-91F3-2C2FD9077752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42E79-548D-4438-8AD8-39FA6513D5C6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C0E7E-A1D6-4681-922A-D8BF4BCC3B45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CCC95-6C93-4636-8556-D6C08A4FEC3E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F38A2-90C9-4AE8-A912-3DD44E8CBEA5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33A6E-8705-4E93-8D49-442AA47506C6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6F5B-810F-4E97-A93B-C338C2A60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0634-535D-4251-BE5A-BDB877E62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7868-486A-432D-A686-2242A45B5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1253-8426-4FFF-8EFF-8FB637FC7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CE65B-747B-4553-B29F-87F3C470D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43D03-0B58-4972-B15A-79C03EB88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FCA1E-8EFB-48B5-983C-2E70B6133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49AE2-905A-4688-B0E4-38DB77324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FF799-F0B7-49F8-852C-DFE11A83E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334EA-8EC2-407B-9510-E2C5B7660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8887D-7280-41D9-94BD-8473F178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72BD-F33F-44A6-8C24-564FCE391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047F0-0221-46F8-96EA-DD3D57DF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40292-33B5-4F26-9625-43789704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09B01-D36B-4734-8C5E-0524AF118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5BDBA-B58E-43DF-9EF4-73A9623D5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B2179-6B06-446F-B3A8-3F8CCC180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D13A-8C00-487D-80B4-B527D6ED7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EF3E-A603-431B-AF19-E453EDB7E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572B-D162-4AFB-B3BB-6FB3FFF8A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0B9B-5C3E-4B0B-AA21-B7BF4212A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4470-E73B-42C7-993D-37D138D2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EA3F-A37B-4B54-A1F2-573E755F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3D59-C616-44F1-8727-1172C2839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33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E413A-7F29-4439-8997-10E0B2EFE906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7" descr="D:\FRONTPAGE THEMES\NATURE\ANABNR2.PNG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1C7CD-65E9-4489-9AD8-7C92B11D49CE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Dirt, hygiene, defeca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1752480" y="0"/>
            <a:ext cx="5867640" cy="88390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"/>
          <p:cNvSpPr/>
          <p:nvPr/>
        </p:nvSpPr>
        <p:spPr>
          <a:xfrm>
            <a:off x="2193840" y="2990880"/>
            <a:ext cx="129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rm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820520" cy="68724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228600" y="5867280"/>
            <a:ext cx="255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angladesh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-380880" y="11160"/>
            <a:ext cx="9905760" cy="68356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897840" y="324000"/>
            <a:ext cx="208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ngladesh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ho to who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e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t little baby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y lover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y neighbor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n unknown person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 cow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y dog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ho to who? (ctd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y neighbor’s dog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 dog to a do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 dog to a child (Turkana example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onclusion: undesired intimacy (cf. sexual harassment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Sorts of hygien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edical hygien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ocial hygien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oral hygien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eligious hygien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ental hygien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esthetics, not microbes” (Kruse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Why is study of defecation relevant?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7724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Everyday charact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Hidden charact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Encultura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Nature / Nurture (“nature’s call”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oretical relevance (window on culture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elation to health (regular, normal stool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iagnostic valu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elevance to public health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Quotation: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“ …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underlying motivations for domestic hygiene … lie not in the avoidance of specific diseases, but in subtler social forces.”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Valerie Curtis 1998: 11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nd: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Because hygiene is a complex idea that embodies a number of social values, clarity has often been missing, both in the understanding of how hygiene relates to health, and in the conception and execution of hygiene education programmes.”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Valerie Curtis 1998: 11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Dirt: disord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  “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Dirt is the evidence of the imperfections of life.” (MacLaughlin in Curtis 1998: 13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  “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Dirt is matter out of place.” (Douglas 1966) i.e. dirt is an invitation to restore order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Nothing is dirt by itself; its use and place make it dirty…. But what about (human) feces????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atter out of plac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ultural reasons (e.g. right/left hand, dress, spitting, grasshoppers, hand in food…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ocial reasons: who does what to who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o understand the social dimension: let us take the example of defecation…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975240" y="54514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ngladesh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4"/>
          <p:cNvSpPr/>
          <p:nvPr/>
        </p:nvSpPr>
        <p:spPr>
          <a:xfrm>
            <a:off x="457200" y="171360"/>
            <a:ext cx="283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ilippin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8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1371600" y="-685800"/>
            <a:ext cx="6338880" cy="83818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1447920" y="228600"/>
            <a:ext cx="180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Keny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-304920" y="0"/>
            <a:ext cx="10058400" cy="690084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1050840" y="176040"/>
            <a:ext cx="151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epal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9T12:06:35Z</dcterms:created>
  <dc:creator>BU</dc:creator>
  <dc:description/>
  <dc:language>en-US</dc:language>
  <cp:lastModifiedBy>Owner</cp:lastModifiedBy>
  <dcterms:modified xsi:type="dcterms:W3CDTF">2013-11-18T12:50:44Z</dcterms:modified>
  <cp:revision>7</cp:revision>
  <dc:subject/>
  <dc:title>Dirt, hygiene, defecation</dc:title>
</cp:coreProperties>
</file>